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337CD-1C36-42AD-9D5E-7509EE61D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A485C-AACC-49AA-A353-8324F74F3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6F40B-E27F-4A85-9972-5F0960F5A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566A4-FFCC-4B83-911A-8F9B41FE3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BDB73-9031-4FA8-A5E9-AF696CF6E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355CC-E537-4CEC-9810-8C0EA03B8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25144-9430-49D4-83CF-6AEC7C554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8DD34-E73D-40FC-BA50-0A08D0437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BAF9D-D97E-4E68-AD37-1E22F259E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CAB22-D1C6-4003-918C-A702F7F23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F79F8-9892-48BF-A410-E8F3712B3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F539E-E2E4-4D48-A622-66922B803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69046C-B0FA-4A5D-A08F-E8F3C28A68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143000" y="2514600"/>
            <a:ext cx="8005680" cy="5045040"/>
          </a:xfrm>
          <a:prstGeom prst="rect">
            <a:avLst/>
          </a:prstGeom>
          <a:ln w="0">
            <a:noFill/>
          </a:ln>
        </p:spPr>
      </p:pic>
      <p:sp>
        <p:nvSpPr>
          <p:cNvPr id="42" name=""/>
          <p:cNvSpPr/>
          <p:nvPr/>
        </p:nvSpPr>
        <p:spPr>
          <a:xfrm>
            <a:off x="0" y="65160"/>
            <a:ext cx="10080720" cy="2220840"/>
          </a:xfrm>
          <a:prstGeom prst="rect">
            <a:avLst/>
          </a:prstGeom>
          <a:noFill/>
          <a:ln w="0">
            <a:noFill/>
          </a:ln>
        </p:spPr>
        <p:style>
          <a:lnRef idx="0"/>
          <a:fillRef idx="0"/>
          <a:effectRef idx="0"/>
          <a:fontRef idx="minor"/>
        </p:style>
        <p:txBody>
          <a:bodyPr lIns="90000" rIns="90000" tIns="8388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1" lang="en-US" sz="4400" spc="-1" strike="noStrike">
                <a:solidFill>
                  <a:srgbClr val="000000"/>
                </a:solidFill>
                <a:latin typeface="Arial"/>
              </a:rPr>
              <a:t>Horrors of Grammar</a:t>
            </a:r>
            <a:endParaRPr b="0" lang="en-US" sz="4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4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1" i="1" lang="en-US" sz="4400" spc="-1" strike="noStrike">
                <a:solidFill>
                  <a:srgbClr val="000000"/>
                </a:solidFill>
                <a:latin typeface="Arial"/>
              </a:rPr>
              <a:t>Bloody Money</a:t>
            </a:r>
            <a:r>
              <a:rPr b="1" lang="en-US" sz="4400" spc="-1" strike="noStrike">
                <a:solidFill>
                  <a:srgbClr val="000000"/>
                </a:solidFill>
                <a:latin typeface="Arial"/>
              </a:rPr>
              <a:t> by Leondrei Prince</a:t>
            </a:r>
            <a:endParaRPr b="0" lang="en-US" sz="4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1440"/>
            <a:ext cx="10080720" cy="718344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3200" spc="-1" strike="noStrike" u="sng">
                <a:solidFill>
                  <a:srgbClr val="000000"/>
                </a:solidFill>
                <a:uFillTx/>
                <a:latin typeface="Arial"/>
              </a:rPr>
              <a:t>The Front Cover: </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i="1" lang="en-US" sz="3200" spc="-1" strike="noStrike">
                <a:solidFill>
                  <a:srgbClr val="000000"/>
                </a:solidFill>
                <a:latin typeface="Arial"/>
              </a:rPr>
              <a:t>Bloody Money</a:t>
            </a:r>
            <a:r>
              <a:rPr b="0" lang="en-US" sz="3200" spc="-1" strike="noStrike">
                <a:solidFill>
                  <a:srgbClr val="000000"/>
                </a:solidFill>
                <a:latin typeface="Arial"/>
              </a:rPr>
              <a:t> will grip you in it's clutches...and take you on a real life journey into the lives of four black men who fall into the comfortable arms of the streets..</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3200" spc="-1" strike="noStrike" u="sng">
                <a:solidFill>
                  <a:srgbClr val="000000"/>
                </a:solidFill>
                <a:uFillTx/>
                <a:latin typeface="Arial"/>
              </a:rPr>
              <a:t>The Back Cover:</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3200" spc="-1" strike="noStrike">
                <a:solidFill>
                  <a:srgbClr val="000000"/>
                </a:solidFill>
                <a:latin typeface="Arial"/>
              </a:rPr>
              <a:t>Who said Da Game Was Fair? No One! Especially not Rasul, Dog, Pretty E and Hit Man, the four friends whose bonds started back in elementary school. They knew what they wanted to accomplish in life, but their dreams seemed far fetched. Until they fell into the cracks of the streets. </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10080720" cy="7559640"/>
          </a:xfrm>
          <a:prstGeom prst="rect">
            <a:avLst/>
          </a:prstGeom>
          <a:noFill/>
          <a:ln w="0">
            <a:noFill/>
          </a:ln>
        </p:spPr>
        <p:style>
          <a:lnRef idx="0"/>
          <a:fillRef idx="0"/>
          <a:effectRef idx="0"/>
          <a:fontRef idx="minor"/>
        </p:style>
        <p:txBody>
          <a:bodyPr lIns="90000" rIns="90000" tIns="69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800" spc="-1" strike="noStrike" u="sng">
                <a:solidFill>
                  <a:srgbClr val="000000"/>
                </a:solidFill>
                <a:uFillTx/>
                <a:latin typeface="Arial"/>
              </a:rPr>
              <a:t>The Back Cover: </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800" spc="-1" strike="noStrike">
                <a:solidFill>
                  <a:srgbClr val="000000"/>
                </a:solidFill>
                <a:latin typeface="Arial"/>
              </a:rPr>
              <a:t>Street Knowledge Publishing, LLC brings to readers from all walks of life the reality of inner city living. Now in now way is the material of their writing intended to give or promote a negative stereo type of the people of inner cities. But, is merely the other side of the game. A side of life the unfortunate and sometimes fortunate people have to turn to in order to survive in this westernized society. The dark side, the wrong road, is where the criminal behavior, etc, is just reality. There is no way to overlook it because yes, it does exist. Whether it's white or blue collar crime, robbery or murder, drug trafficking or prostitution, we are all just one misfortune away from falling into the arms of what society calls a dead end!</a:t>
            </a: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800" spc="-1" strike="noStrike">
                <a:solidFill>
                  <a:srgbClr val="000000"/>
                </a:solidFill>
                <a:latin typeface="Arial"/>
              </a:rPr>
              <a:t>Street Knowledge Publishing, LLC brings to its audience an experiences so real, YOU WILL FEEL LIKE YOU'VE LIVED THEM!</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10080720" cy="469728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3600" spc="-1" strike="noStrike">
                <a:solidFill>
                  <a:srgbClr val="000000"/>
                </a:solidFill>
                <a:latin typeface="Arial"/>
              </a:rPr>
              <a:t>Page 3: </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3600" spc="-1" strike="noStrike">
                <a:solidFill>
                  <a:srgbClr val="000000"/>
                </a:solidFill>
                <a:latin typeface="Arial"/>
              </a:rPr>
              <a:t>	</a:t>
            </a:r>
            <a:r>
              <a:rPr b="0" lang="en-US" sz="3600" spc="-1" strike="noStrike">
                <a:solidFill>
                  <a:srgbClr val="000000"/>
                </a:solidFill>
                <a:latin typeface="Arial"/>
              </a:rPr>
              <a:t>“</a:t>
            </a:r>
            <a:r>
              <a:rPr b="0" lang="en-US" sz="3600" spc="-1" strike="noStrike">
                <a:solidFill>
                  <a:srgbClr val="000000"/>
                </a:solidFill>
                <a:latin typeface="Arial"/>
              </a:rPr>
              <a:t>Yo [homeskillet] watch my back make sure ain't no police or nuffin watching us. You know them “stick-up” [fellas] ain't playin fair,” said Jamar as he exited the 500 SE Benz Coupe. Smooth stood near the rear of the car shielding Jamar as he retrieved the duffle bag from the trunk</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10080720" cy="4648320"/>
          </a:xfrm>
          <a:prstGeom prst="rect">
            <a:avLst/>
          </a:prstGeom>
          <a:noFill/>
          <a:ln w="0">
            <a:noFill/>
          </a:ln>
        </p:spPr>
        <p:style>
          <a:lnRef idx="0"/>
          <a:fillRef idx="0"/>
          <a:effectRef idx="0"/>
          <a:fontRef idx="minor"/>
        </p:style>
        <p:txBody>
          <a:bodyPr lIns="90000" rIns="90000" tIns="730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3200" spc="-1" strike="noStrike">
                <a:solidFill>
                  <a:srgbClr val="000000"/>
                </a:solidFill>
                <a:latin typeface="Arial"/>
              </a:rPr>
              <a:t>Page 5: </a:t>
            </a: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3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Who is it?” asked Sarah, but didn't receive an answer. They knocked again and she still didn't receive an answer. She yanked the door open annoyingly expecting to see those bad [buttocks] little boys from down the street sprinting away from her door step, but was rudely greeted by the Desert Eagle Pretty E held in his hand. Sarah's heard dropped as she felt the cold steel underneath her chin.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2:04:43Z</dcterms:created>
  <dc:creator>Nick Chanese</dc:creator>
  <dc:description/>
  <dc:language>en-US</dc:language>
  <cp:lastModifiedBy/>
  <cp:revision>1</cp:revision>
  <dc:subject/>
  <dc:title/>
</cp:coreProperties>
</file>